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png" ContentType="image/png"/>
  <Override PartName="/ppt/media/image13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34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36.wmf" ContentType="image/x-wmf"/>
  <Override PartName="/ppt/media/image32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39.wmf" ContentType="image/x-wmf"/>
  <Override PartName="/ppt/media/image41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62B-C597-4123-9C8D-145483B4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638-05E8-44A4-AD27-8D8DEB17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74C-FF35-42D8-88D7-5FD59EA4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CC4-C312-477E-9287-67812FDB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050A-1E00-47D6-86EA-2E70EDD3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8407-30C4-4696-BC33-3B55FE00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A6F1-665C-499B-B354-ACFA3ACD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6F2-C50D-4909-8932-CC6AE18B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A632-65CD-4539-B649-54291D79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16D3-8DA5-4458-82B5-360457A5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A75B-679C-4EE4-9DDB-6E77445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206-7854-4B7B-9A07-7B6A6AF1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B8AD-FA6F-4F54-97D0-B6EADD33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FDAE-5D3F-4A07-BB45-D919541E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0715-58D2-4A6E-9AF3-E2A017AF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22DB-6012-45C2-B164-6159090F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1EE1-8EEB-4E7D-9B06-EDAF833A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CAB-581F-4FC8-BB43-EE9D64CF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D7A-9DB4-4037-849F-89654FD0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244-AED1-47C4-AD70-44C91EB4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51F-D7E4-4348-BA4B-578F5B59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A56-64E2-41D6-B946-F814ACDE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81A-D3E4-463F-A6A6-6C0D0EE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FBB-6764-4454-BC29-DCFBE581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BF4A-9113-4DF0-A5B1-6F9EE2106F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1780-4D12-47F8-8952-C58D742171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gi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History of the C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07-00-Cell.jpg"/>
          <p:cNvPicPr/>
          <p:nvPr/>
        </p:nvPicPr>
        <p:blipFill>
          <a:blip r:embed="rId1"/>
          <a:stretch/>
        </p:blipFill>
        <p:spPr>
          <a:xfrm>
            <a:off x="1447920" y="2438280"/>
            <a:ext cx="60195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plant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781680" y="3809880"/>
            <a:ext cx="1771920" cy="2189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200400" y="3886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09480" y="350532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odor Schwan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animal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635880" y="2643120"/>
            <a:ext cx="63360" cy="101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6095880" y="3809880"/>
            <a:ext cx="2819520" cy="1900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[Theodor Schwann]"/>
          <p:cNvPicPr/>
          <p:nvPr/>
        </p:nvPicPr>
        <p:blipFill>
          <a:blip r:embed="rId6"/>
          <a:stretch/>
        </p:blipFill>
        <p:spPr>
          <a:xfrm>
            <a:off x="457200" y="3429000"/>
            <a:ext cx="203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reproduce: that is where new cells come fr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ell exists, there must have been a pre-existing cell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Image:Rudolf Virchow.jpg"/>
          <p:cNvPicPr/>
          <p:nvPr/>
        </p:nvPicPr>
        <p:blipFill>
          <a:blip r:embed="rId4"/>
          <a:stretch/>
        </p:blipFill>
        <p:spPr>
          <a:xfrm>
            <a:off x="5361120" y="1981080"/>
            <a:ext cx="2765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Cell Theo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ll living things are made of cells. (Schleiden = plants, Schwann = anim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ells are the basic units of structure and function in living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ew cells are produced from existing ce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irch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rokaryotes and Eukaryo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743200" cy="2306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382840" y="2871720"/>
            <a:ext cx="244800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3174840" cy="2381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2187720" cy="2667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791320" y="1219320"/>
            <a:ext cx="312408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 orig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…..        means ‘tru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….        Means ‘earlier than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ryon…..  means  ‘kernel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elle…means ‘mini-organ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ells Come in a Variety of Shapes and Siz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48440" y="2792520"/>
            <a:ext cx="2125440" cy="1717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280" y="258984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d800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Smallest= mycoplasma bacteria (0.2 µm in diame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72356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d800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Largest = </a:t>
            </a:r>
            <a:r>
              <a:rPr b="1" i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Chaos chaos </a:t>
            </a: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amoeba (1000 µm in diame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457200" y="175104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d800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d8009f"/>
                </a:solidFill>
                <a:latin typeface="Comic Sans MS"/>
                <a:ea typeface="新細明體"/>
              </a:rPr>
              <a:t>Most cells = 5 to 50 µm in di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231156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28600"/>
          <a:ext cx="8229600" cy="4786200"/>
        </p:xfrm>
        <a:graphic>
          <a:graphicData uri="http://schemas.openxmlformats.org/drawingml/2006/table">
            <a:tbl>
              <a:tblPr/>
              <a:tblGrid>
                <a:gridCol w="2351160"/>
                <a:gridCol w="2419200"/>
                <a:gridCol w="3459240"/>
              </a:tblGrid>
              <a:tr h="86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新細明體"/>
                        </a:rPr>
                        <a:t>Prokaryo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新細明體"/>
                        </a:rPr>
                        <a:t>Eukaryo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Siz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Usually smaller and simpl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Usually larger and more compl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ucleus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Ab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Genetic 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Not in nucle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In nucleus (separate from rest of cell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1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Example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Bacter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Plants, animals, fungi, protis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429000" y="5029200"/>
            <a:ext cx="1143000" cy="1055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257800" y="5105520"/>
            <a:ext cx="1066680" cy="1009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162920" y="5181480"/>
            <a:ext cx="804600" cy="914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6324480" y="57913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391520" y="6033960"/>
            <a:ext cx="14349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90440"/>
          <a:ext cx="883908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440"/>
                    <a:ext cx="88390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rokaryotic Cell Parts: Bact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828800" y="1527120"/>
            <a:ext cx="609588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se cells the same and how are they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600200"/>
          <a:ext cx="31986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3198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44756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07-04x2-EColi.jpg"/>
          <p:cNvPicPr/>
          <p:nvPr/>
        </p:nvPicPr>
        <p:blipFill>
          <a:blip r:embed="rId4"/>
          <a:stretch/>
        </p:blipFill>
        <p:spPr>
          <a:xfrm>
            <a:off x="1219320" y="4191120"/>
            <a:ext cx="2528640" cy="2189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>
            <a:off x="11412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86400" y="4267080"/>
            <a:ext cx="2990880" cy="224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867280" y="1523880"/>
            <a:ext cx="3048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the basic unit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a structure within a living thing that has a boundary surrounding the material in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41907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mall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07-01-CellSizeScale-L.gif"/>
          <p:cNvPicPr/>
          <p:nvPr/>
        </p:nvPicPr>
        <p:blipFill>
          <a:blip r:embed="rId1"/>
          <a:stretch/>
        </p:blipFill>
        <p:spPr>
          <a:xfrm>
            <a:off x="3048120" y="1219320"/>
            <a:ext cx="3252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re cells discove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were curious about what living things were made o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ey created microscopes to take a closer look at living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2036520" cy="203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095880" y="41148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main people involved in the discovery of ce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181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on van Leeuwenh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dor Scw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on von Leeuwenho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see and describe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simple microscope (one le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tiny living organisms in a drop of pond water (“wee beasties”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143000" y="4359240"/>
            <a:ext cx="2584440" cy="2325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4343400" y="4300560"/>
            <a:ext cx="4267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6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use the term, “cell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compound microscope (2 lens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a slice of cork (dead cell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d for seeing, describing, and expl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324480" y="1600200"/>
            <a:ext cx="173700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095880" y="3886200"/>
            <a:ext cx="2319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identify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ed that nucleus was doing something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95440" y="4038480"/>
            <a:ext cx="187632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419720" y="40384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3:05:11Z</dcterms:created>
  <dc:creator>Theresa DeLaurentis</dc:creator>
  <dc:description/>
  <dc:language>en-US</dc:language>
  <cp:lastModifiedBy>Preferred Customer</cp:lastModifiedBy>
  <dcterms:modified xsi:type="dcterms:W3CDTF">2009-11-04T02:30:33Z</dcterms:modified>
  <cp:revision>17</cp:revision>
  <dc:subject/>
  <dc:title>Are All Cells Alike?</dc:title>
</cp:coreProperties>
</file>